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3C4-2B96-4E7A-B2A6-03B4AE4A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A6F-055E-4EB4-9342-8C7792E2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A6F-8AC9-4F43-9908-DCCF9477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9A7-2085-402D-B4E9-8C92B341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728-44A5-4F9C-BB77-0A03D948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6E8-0A7B-4B71-9260-81392BD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137-00C5-406F-983C-A8910203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C07-925D-42B0-A8C1-AA2F30B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786-321E-4FDE-BE5E-68D5AC61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9D6-F988-44A2-85F1-ABC51D1C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170-94C7-40B5-A07A-CD7AC39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F43-70F5-42F5-9926-5F14C52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D08-FEAF-4BD8-8226-B6B669C9A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ol.yorku.ca/" TargetMode="External"/><Relationship Id="rId2" Type="http://schemas.openxmlformats.org/officeDocument/2006/relationships/hyperlink" Target="http://www.biol.yorku.ca/index.php?option=com_content&amp;view=category&amp;layout=blog&amp;id=9&amp;Itemid=9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functions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functions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es, itches, and 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anatomy plagued by irr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htnocro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es, itches, and 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anatomy plagued by irr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htnocro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 fruits with a yellow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 fruits with a yellow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ic au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human body related to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that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that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a university near yo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.yorku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divisions in bi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ol.yorku.ca/index.php?option=com_content&amp;view=category&amp;layout=blog&amp;id=9&amp;Itemid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complete l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ic au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human body related to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&amp; development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&amp; development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the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lands and hormone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the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2-09-06T12:29:18Z</dcterms:modified>
  <cp:revision>69</cp:revision>
  <dc:subject/>
  <dc:title>Biology Disciplines</dc:title>
</cp:coreProperties>
</file>